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2.wmf" ContentType="image/x-wmf"/>
  <Override PartName="/ppt/media/image13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2250-4323-41AA-A8ED-5116D7A6D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7DEA-A9CA-4C50-A1DC-0A7A90926A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ve agre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1329-A78F-42A9-9F56-077E17E9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49AB-70F7-4013-8B85-753B83E6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D3BE-77DE-4A4D-8C8A-85DD14C8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48B-3685-4DB8-84F6-A9F4CD98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7D09-41D9-49A1-89C9-13093C16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C862-EADF-491F-AA8A-FDFD8F65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8B38-0579-4523-9515-3B47AAC4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660C-9B8C-4F12-8B05-EB067A3B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FCD7-F8FB-4D66-AD4B-DB0C5762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51FD-615D-492E-9B46-EB24613D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C01D-5CC3-4BCC-8C33-2FD2E7FC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B6B-BCF9-432E-90A7-ADF5B229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A924-7FA4-4965-AB5A-B56F2589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8BB0-FDCC-4A72-B91A-95B86F8A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DBA9-B29C-4718-B14C-1F343D5E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BE52-2EA9-4E16-91B7-753C48EC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0BD8-B948-45AF-9D5B-4939E283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A172-D3B6-4CE7-84B9-E709054F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A0C4-F672-4139-B462-5140B3F8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7BFD-0656-4BCE-81EC-43314814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B6B-3850-4D1A-9B4D-C291894F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276-B498-4877-8BF0-563CFBB1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777-3E5F-4C53-A3DF-6E94FFA3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99C2-F092-43DD-9742-45A7C4BA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12CB-D743-49AB-946A-27457600A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8D00-9375-49D2-A487-7854E7585D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B76E-AFE2-40C9-A20E-8498989B74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ACHERS’ LEGAL ISSU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 FINAL FEW WORD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420A-6CD8-4789-9420-30D8D7FE9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AYOFF AND RECALL - Art.48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ER WITH LEAST SENIORITY LAID OFF BEFORE OTHERS AS LONG AS REMAINING TEACHERS CAN SATISFACTORILY FULFILL THE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BBEB-1952-40C5-BD9B-8C27969A2F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PERIENCE FOR SALARY - 5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 CREDIT -TAUGHT IN PUBLIC SCHOOLS WHILE LICENSED OR ELIGIBLE IN N.B. OR BECOMES LICENSED IN N.B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2 CREDIT -TAUGHT IN PRIVATE SCHOOL IN CANADA WHILE ELIGIBLE IN N.B.OR UPTO 2 YEARS APPROVED RELATED EX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E948-7771-4D95-A270-A645BBCA27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SCIPLINE - 5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TEACHER SHALL BE DISCIPLINED, SUSPENDED, DISMISSED OR ASSESSED A FINANCIAL PENALTY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CEPT FOR JUST CA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986C-7B1F-404B-8871-3105C1ECF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IEVANCE - 57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IEVANCE IS A DISPUTE OR DIFFERENCE OF OPINION CONCER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PRETATION OR VIOLATION OF     THE AGRE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MISSAL, SUSPENSION OR FINANCIAL PENAL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A281-126F-4FE2-9051-EB3A07C149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ARTIES AGREE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ERS WILL BE PAID AND WIL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DILIGENTLY AND FAITHFULLY AND PERFORM THEIR DUTIES IN ACCORDANCE WITH TH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DUCATION A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VISIONS OF THE AGRE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3AC6-A613-48E2-9670-ACA58AE0D6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F YOU FIND YOURSELF IN TROUB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467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E2DD-5B28-4E68-9856-D012289917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LP IS  AVAILABLE 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165320" y="1981080"/>
            <a:ext cx="6811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F34C-6C0D-4267-AD63-F0D9EFF96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OU ARE NOT ALONE NBTA/NBT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25560" y="2514600"/>
          <a:ext cx="9118440" cy="31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" y="2514600"/>
                    <a:ext cx="9118440" cy="31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6CC7-A716-478A-A939-7D86908C7E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O YA GONNA CALL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4" marL="18925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SCHOOL REP/GRIEV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BRANCH PRESIDEN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 DIR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NBTA/NBTF STAF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452-892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0" y="1905120"/>
          <a:ext cx="419112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419112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094D-171F-4139-A6E1-4A3E5D7F22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YTHING OTHER THAN THE AGREEMENT CALL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52-892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Picture 1027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3276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8486-2994-42F5-ABBC-333913FB3D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454640" cy="525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COLLECTIVE AGRE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9C9A-0603-46F4-B600-A674C21314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337440" cy="4330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LL CONTACT WITH STUDENTS BASED UPON TRUST RELATIONSHI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7FFC-A459-46EA-A181-A98230F25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GAL ASSISTANCE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ERS MAY RECEIVE LEGAL ADVICE AND/OR ASSISTANCE FOR ANY INCIDENT WITHIN THE SCOPE OF EMPLOY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IDENTS MAY INCLUDE CRIMINAL CHARGES, LAW SUIT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GOING HARASSMENT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6172200" y="4572000"/>
          <a:ext cx="29718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4572000"/>
                    <a:ext cx="29718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2F88-DDC6-4BC0-A836-53B5710B3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GAL ADV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SOON AS YOU BECOME AWARE OF A POTENTIAL LEGAL PROBL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 NOTIFY YOUR ADMINISTRATION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MAKE SURE DISTRICT OFFICE KN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) CALL NBTA - BOB FITZPATR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C9F5-B0EC-463A-985E-CBAC047F9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 YOURSELF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DATE PUP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STRIKE OR PHYSICALLY HANDLE PUPILS EXCEPT TO DEF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ON DUTY/SUPERVISION WHEN ASSIGNED AND BE REASONABLY VIGIL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LE STUDENT MONEY WITH YOUR TRUST RELATIONSHIP IN 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6553080" y="45720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0C7C-C066-469D-9769-8BF2911545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MPLOYER PROTE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MPLOYER WILL DEFEND, NEGOTIATE, SETTLE AND PAY ALL COSTS RELATED TO A LAWSUIT AGAINST YOU WHICH STEMS FROM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OPE OF YOUR EMPLOY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 LONG AS YOU HAVE ACTED I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OOD FA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2421000" cy="1452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C05F-3887-4E00-9F66-D6160C4E1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ORTANT POLIC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ICY 701 -- PUPIL PROTECTION POLICY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POSITION OF TR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VIOLATIORS WILL BE DISCIPL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ICY 311 -- USE OF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USE FOR LEGITIMATE PURP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INAPPROPRIATE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0LICY 703 -- POSITIVE LEARNING ENVIRONMENT = SCHOOL AUTHO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E3D3-2B92-4C61-9FAB-3AB73E0A2D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DE OF PROFESSIONAL CONDU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D IN LEGIS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ERS PREPARED TO JUDGE AND BE JUDGED BY PE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93F3-4B25-40B6-92E8-C611FABB7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ANDING PROFESS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protect yourself by understanding the rights responsibilities and duties of a teac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45720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2D12-08B8-466E-94C2-41ECF9209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T EXTREMELY REWAR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2859120" y="1981080"/>
            <a:ext cx="3424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0DCF-97B5-41A8-85F9-8AED921951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R JOB AS WELL AS YOU 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 YOURSELF AS A PROFESSION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 TO THE SUPPORT SYSTEM WHEN YOU HAVE A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ALMOST ALL OF THE PEOPLE YOU WILL DEAL WITH HAVE BEEN THROUGH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DBA1-BB24-4669-B8FF-B57614D7E7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LLECTIVE BARGAI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886040"/>
            <a:ext cx="86104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COLLECTIVE AGREEMENT FOR ALL TEACHERS IN N.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OTIATIONS  PROCEED UNDER THE TERMS OF 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UBLIC SERVICE LABOR RELATIONS 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SIONS APPLY TO ALL TEACHERS AND THE EMPLOYER (DIST.s &amp; DEP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524F-85D4-4ABA-AA84-08CC3B8340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VE A GREAT CAREER - AND PAUSE TO ENJOY IT REGULAR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6096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E5C7-F8CE-4EC7-9DE6-89C91462D4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IMPORTANT ARTIC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- Art.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SIZE - Art. 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CK LEAVE - Art. 3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YOFFS AND RECALL - Art.4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MENT IN CERTIFICATION - Art.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ENCE FOR SALARY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t. 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IPLINE - Art. 5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IEVANCE - Art. 5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T, SALARY, 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Object 1028"/>
          <p:cNvGraphicFramePr/>
          <p:nvPr/>
        </p:nvGraphicFramePr>
        <p:xfrm>
          <a:off x="6095880" y="4114800"/>
          <a:ext cx="25146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4114800"/>
                    <a:ext cx="25146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5A69-EFB4-4C20-B31A-5C61146FC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PPLICATION - Art. 6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188568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GREEMENT APPLIES TO AND IS BINDING 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THE FED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ALL TEACHERS EMPLOYED BY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TRACT IN ANY SCHOOL IN N.B. UNDER THE JURISDICTION OF THE DEPARTMENT OF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THE EMPLOYER AND REPRESENT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5450-BE15-46D2-BD4A-5A366A456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MPLOYER’S RESPONSI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885680"/>
            <a:ext cx="88394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MPLOYER IS VESTED WITH THE RESPONSIBILITY OF MANAGING THE PUBLIC SCHOOL SYSTEM INCLU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RING, PROMOTING, TRANSFERRING, SUSPENDING, DISCIPLINING, DISMISSING OR LAYING OFF TEACHER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JECT TO THE SPECIFIC PROVISIONS OF THE COLLECTIVE AGRE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25A2-C799-4E49-B84B-7F92FC7A7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 LEGISLATION - Art. 12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ACT (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DUCATION A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OF THE PROVINCE HAS PRECEDENCE OVER THE AGRE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GREEMENT HAS PRECEDENCE OVER CONFLICTING REGU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25B2-49D8-4959-8555-43D2329315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ASS SIZE - Art. 20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(currently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 CLASS SIZE 27 WITH NO CLASS LARGER THAN 30, B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NDERGARTEN - 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DES 1 &amp; 2 -     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DE 3 - 27 ( UNFORSEEN = 2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DES 4-6 - 29 ( UNFORSEEN = 3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BINED CLASSES 1-3=17, 3-5=24, 5-12=25 WHILE ANY GRADE COMBONED WITH K = 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SION OF SPECIAL NEEDS STUDENTS SHAL [ALSO] BE CONSID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 1, 2009 – MAX AT EACH GRADE LEVEL REDUCED BY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B708-DDF0-4D48-B136-8C68C2BDFC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CK LEAVE - Art. 3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1/2 DAYS PER MONTH TO 1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OTHER ARTICLES RELATED TO LEAV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COMPASSIONATE LEAV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MATERNITY LEAV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ADOPTION LEAV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OTHER ABSENCES 34, 35, 36,AND 3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16:23:46Z</dcterms:created>
  <dc:creator>Bob Fitzpatrick</dc:creator>
  <dc:description/>
  <dc:language>en-US</dc:language>
  <cp:lastModifiedBy>Owner</cp:lastModifiedBy>
  <cp:lastPrinted>2003-10-27T15:44:30Z</cp:lastPrinted>
  <dcterms:modified xsi:type="dcterms:W3CDTF">2011-04-03T18:40:46Z</dcterms:modified>
  <cp:revision>12</cp:revision>
  <dc:subject/>
  <dc:title>TEACHERS’ LEGAL ISSUES</dc:title>
</cp:coreProperties>
</file>